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D6D-4578-4B56-94BC-B8357228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25C-1555-4738-BF86-F872CD39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8F0-0732-4F96-B112-789B0CEF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2E4-F0AB-449D-A482-DDB001D2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DA6-88E3-49A1-8252-53AC403B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B2E-28F3-4EE9-A77D-E2054D52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D9C-20D2-4F76-9859-3492787B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4C6-8B53-4F2A-BCFD-6E73E701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D61-63CC-4527-A5F3-DF25B5D0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15B-D595-48A7-A808-8AD5D4C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580-794C-451D-83B2-1F068513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875-C058-4EB7-9F8E-C1D025F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E58-AB0C-4AA3-9FB9-3E7F0286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45456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ar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762120"/>
            <a:ext cx="7772400" cy="1068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4419720"/>
            <a:ext cx="4648320" cy="129528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457200" y="-762120"/>
            <a:ext cx="7772400" cy="1068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5486400"/>
            <a:ext cx="4648320" cy="160020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57200" y="-762120"/>
            <a:ext cx="7772400" cy="1068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7162920"/>
            <a:ext cx="4648320" cy="160020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ding/Refl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is block you will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and write about how they are using the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d discuss something they have just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ading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r to Success Not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609480"/>
            <a:ext cx="7772400" cy="1068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1905120"/>
            <a:ext cx="4114800" cy="144756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ead previously read SOAR TO SUCCESS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SOAR TO SUCCESS book and reread it practicing the four reading strategies we will learn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con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discussion concerning the books we are reading independent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762120"/>
            <a:ext cx="7772400" cy="1068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3124080"/>
            <a:ext cx="4648320" cy="129564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iscuss the four Reciprocal Teaching Reading Strategies that we will be learning today and/or we will summarize what we read the prev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771480"/>
            <a:ext cx="77724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3:03:22Z</dcterms:created>
  <dc:creator>j</dc:creator>
  <dc:description/>
  <dc:language>en-US</dc:language>
  <cp:lastModifiedBy>j</cp:lastModifiedBy>
  <dcterms:modified xsi:type="dcterms:W3CDTF">2010-06-19T17:24:21Z</dcterms:modified>
  <cp:revision>5</cp:revision>
  <dc:subject/>
  <dc:title>Soar to Success</dc:title>
</cp:coreProperties>
</file>